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4.3-</a:t>
            </a:r>
            <a:fld id="{7611D619-9397-428B-9F14-8529E9CF4CE1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4 is a zero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use synthetic division and the remainder theorem to 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the number 4 is not a zero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38600" y="4281480"/>
            <a:ext cx="36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3762360"/>
            <a:ext cx="36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38600" y="3762360"/>
            <a:ext cx="36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38600" y="3243240"/>
            <a:ext cx="234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38600" y="4800600"/>
            <a:ext cx="234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38600" y="3243240"/>
            <a:ext cx="0" cy="1557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3243240"/>
            <a:ext cx="0" cy="1557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419720" y="3505320"/>
            <a:ext cx="2342880" cy="1557360"/>
            <a:chOff x="4419720" y="3505320"/>
            <a:chExt cx="2342880" cy="1557360"/>
          </a:xfrm>
        </p:grpSpPr>
        <p:sp>
          <p:nvSpPr>
            <p:cNvPr id="158" name=""/>
            <p:cNvSpPr/>
            <p:nvPr/>
          </p:nvSpPr>
          <p:spPr>
            <a:xfrm>
              <a:off x="6222960" y="454356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3320" y="454356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43320" y="4543560"/>
              <a:ext cx="540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81520" y="4543560"/>
              <a:ext cx="36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22960" y="402444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3320" y="402444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43320" y="4024440"/>
              <a:ext cx="540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22960" y="350532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3320" y="350532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43320" y="3505320"/>
              <a:ext cx="540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81520" y="3505320"/>
              <a:ext cx="36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19720" y="3505320"/>
              <a:ext cx="36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19720" y="4024440"/>
              <a:ext cx="361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81520" y="3505320"/>
              <a:ext cx="0" cy="519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81520" y="4543560"/>
              <a:ext cx="1981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9440" y="4543560"/>
              <a:ext cx="0" cy="519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31520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7816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Factor Theor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acto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6. Fa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solve the equ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look for linear factors of the form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Let’s t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0" y="4419720"/>
            <a:ext cx="2437920" cy="1447200"/>
            <a:chOff x="4572000" y="4419720"/>
            <a:chExt cx="2437920" cy="1447200"/>
          </a:xfrm>
        </p:grpSpPr>
        <p:sp>
          <p:nvSpPr>
            <p:cNvPr id="179" name=""/>
            <p:cNvSpPr/>
            <p:nvPr/>
          </p:nvSpPr>
          <p:spPr>
            <a:xfrm>
              <a:off x="6447960" y="5384880"/>
              <a:ext cx="56196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86000" y="5384880"/>
              <a:ext cx="5616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10880" y="5384880"/>
              <a:ext cx="3751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33960" y="5384880"/>
              <a:ext cx="37656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5384880"/>
              <a:ext cx="56196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47960" y="4902120"/>
              <a:ext cx="561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86000" y="4902120"/>
              <a:ext cx="5616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10880" y="4902120"/>
              <a:ext cx="375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3960" y="4902120"/>
              <a:ext cx="376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0" y="4902120"/>
              <a:ext cx="561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47960" y="4419720"/>
              <a:ext cx="561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86000" y="4419720"/>
              <a:ext cx="5616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0880" y="4419720"/>
              <a:ext cx="375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33960" y="4419720"/>
              <a:ext cx="376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2000" y="4419720"/>
              <a:ext cx="561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0" y="4419720"/>
              <a:ext cx="243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0" y="5866920"/>
              <a:ext cx="243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419720"/>
              <a:ext cx="0" cy="144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09920" y="4419720"/>
              <a:ext cx="0" cy="144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0" y="4902120"/>
              <a:ext cx="56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33960" y="4419720"/>
              <a:ext cx="0" cy="482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33960" y="5384880"/>
              <a:ext cx="1875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47960" y="5384880"/>
              <a:ext cx="0" cy="482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= 0, we know th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e factor and the quoti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 is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, we ha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1, or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4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Polynomial and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Rational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320" y="266652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 Polynomial Functions an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2 Graphing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3 Polynomial Division; The Remainder and Facto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4 Theorems about Zeros of Polynom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5 Ration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6 Polynomial and Rational Ine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4.3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olynomial Division; The Remainder and Factor Theore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355840"/>
            <a:ext cx="830592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long division with polynomials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etermine whether one polynomial is a factor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ynthetic division to divide a polynomial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remainder theorem to find a functio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actor theorem to determine whe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a factor 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vision and Factor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divide one polynomial by another, we obtain a quotient and a remainder. If the remainder is 0, then the divisor is a factor of the divid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ivide to determine whe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 an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are factor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962520" y="3784680"/>
          <a:ext cx="26431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784680"/>
                    <a:ext cx="2643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vision and Factors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remainder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, we know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438280" y="1579680"/>
          <a:ext cx="4799160" cy="33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79680"/>
                    <a:ext cx="479916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vision and Factors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remainder is 0, we know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is a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330280" y="1539720"/>
          <a:ext cx="432468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1539720"/>
                    <a:ext cx="432468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vision of Polynomial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9644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ividing a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y a divis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a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quotient and a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remainder. The quotient must have degree less than that of the dividen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 remainder must be either 0 or have degree less than that of the divis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572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vidend    Divisor    Quotient    Rema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590920" y="4190760"/>
            <a:ext cx="304560" cy="5331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4191120"/>
            <a:ext cx="304920" cy="4572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419112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943240" y="4191120"/>
            <a:ext cx="304920" cy="4572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Remainder Theorem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488960"/>
            <a:ext cx="8076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ubstituted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  then the resul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remainder that would be  obtained by divi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at is, if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tic division is a “collapsed” version of long   division; only the coefficients of the terms are wr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ynthetic division to find the quotient and remaind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quotient is –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1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28 and the remainder is –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743200" y="1676520"/>
          <a:ext cx="4789440" cy="54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76520"/>
                    <a:ext cx="47894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"/>
          <p:cNvGrpSpPr/>
          <p:nvPr/>
        </p:nvGrpSpPr>
        <p:grpSpPr>
          <a:xfrm>
            <a:off x="1447920" y="3048120"/>
            <a:ext cx="4311360" cy="1557360"/>
            <a:chOff x="1447920" y="3048120"/>
            <a:chExt cx="4311360" cy="1557360"/>
          </a:xfrm>
        </p:grpSpPr>
        <p:sp>
          <p:nvSpPr>
            <p:cNvPr id="117" name=""/>
            <p:cNvSpPr/>
            <p:nvPr/>
          </p:nvSpPr>
          <p:spPr>
            <a:xfrm>
              <a:off x="5041800" y="408636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23960" y="4086360"/>
              <a:ext cx="717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06480" y="408636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89000" y="408636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49360" y="4086360"/>
              <a:ext cx="539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09360" y="408636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7920" y="4086360"/>
              <a:ext cx="361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41800" y="356724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23960" y="3567240"/>
              <a:ext cx="717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06480" y="356724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89000" y="356724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49360" y="3567240"/>
              <a:ext cx="539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09360" y="356724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47920" y="3567240"/>
              <a:ext cx="361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41800" y="304812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23960" y="3048120"/>
              <a:ext cx="717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6480" y="304812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89000" y="3048120"/>
              <a:ext cx="71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9360" y="3048120"/>
              <a:ext cx="539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9360" y="3048120"/>
              <a:ext cx="539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47920" y="3048120"/>
              <a:ext cx="361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7920" y="3048120"/>
              <a:ext cx="4311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7920" y="4605480"/>
              <a:ext cx="4311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3048120"/>
              <a:ext cx="0" cy="155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59280" y="3048120"/>
              <a:ext cx="0" cy="155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47920" y="3567240"/>
              <a:ext cx="361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09360" y="3048120"/>
              <a:ext cx="0" cy="519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09360" y="4086360"/>
              <a:ext cx="39495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41800" y="4086360"/>
              <a:ext cx="0" cy="519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09588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 We must write a      0 for the missing te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28840" y="289548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4-07T13:22:48Z</dcterms:modified>
  <cp:revision>191</cp:revision>
  <dc:subject/>
  <dc:title>No Slide Title</dc:title>
</cp:coreProperties>
</file>